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BC9C-59A5-4794-B39D-768F05B71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5884-88A2-4571-BF69-ED16BA4F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42BE-260F-44C1-8347-DB6CC100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3FAE-B991-4A38-8936-E7D5BF0B7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EDB1-A127-4922-AC10-4FD6A7E6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F480-0CFB-42DA-A6FC-54A2A28B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C2F0-E041-4B52-BB7F-58FAC43F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B67B-2A7E-4632-BE17-54B65862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4983-50D3-47D3-9CCF-B8AC6161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C989-D21D-4CB5-8466-8E27F245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43B5-6CDF-42EB-A0FE-1F460F3A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7666-8136-4238-8D4B-8AC91FDA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06B2-1722-4A0B-806C-835F7C0D7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2514600"/>
            <a:ext cx="81532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RCOT Retail Outages and Transaction Processing Not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 of September 200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9FA4-B5CB-460F-9B18-ACCEDE068A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3184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inder –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Qtr Metrics 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6440" y="140976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-In Transactions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3960" y="6345360"/>
            <a:ext cx="715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 should be noted that Move-In transactions have stricter protocol times than Switch transac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89080" y="2327400"/>
          <a:ext cx="8615160" cy="374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080" y="2327400"/>
                    <a:ext cx="861516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0BAE-B13D-42A8-A60E-41849B80FA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1900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inder –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Qtr Metr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6440" y="140976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itch Meter Reading Transactions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85800" y="2336760"/>
          <a:ext cx="8021520" cy="218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36760"/>
                    <a:ext cx="8021520" cy="21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7FBB-CAB1-489C-B0F3-6C67409CFE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4464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inder –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Qtr Metrics 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6440" y="140976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-In Meter Reading Transactions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77720" y="2225520"/>
          <a:ext cx="8239320" cy="234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2225520"/>
                    <a:ext cx="8239320" cy="23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6EE4-E5CD-479C-8F12-80C7D47FB4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ation –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Qu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90920" y="2438280"/>
            <a:ext cx="39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9560" y="1981080"/>
            <a:ext cx="92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X SET 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03520" y="2666880"/>
            <a:ext cx="1540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75040" y="2057400"/>
            <a:ext cx="117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I ou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rans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048120" y="472392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93800" y="54864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CH Ou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3886200" y="4723920"/>
            <a:ext cx="3808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12040" y="601992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ESB Ou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7086240" y="480024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18800" y="5410080"/>
            <a:ext cx="111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ned ou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ek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AAC7-7B26-455A-8225-2902C7CBC1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mend to present updates quarterly to RMS along with the Performance Metrics upd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mend to add monthly reports to the supporting materials sent to 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D02C-E309-4D89-896D-9B20A3A328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Client Services (Retail and Wholesale) continues to work with COPS (communications team) to make improvements to market not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e Sept RMS meeting, ERCOT was requested to share additional information on d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 we will share information about duration and a recommendation will be made for future reporting to RM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C95E-AB8C-4067-BB38-90E9D1BFBD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COT Retail Ou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391520" cy="460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541D-9CDE-42DA-A94C-E8C425F718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Processing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315200" cy="436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89AF-09A0-41F2-B053-A41DA536E3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ations and Effect on Metr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ind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ESB outages, when ERCOT is not receiving inbound transactions, would be reflected in market metrics.  The transactions are time stamped when received by NAESB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814_04 response to an 814_03 would be an example of one that would be timed LONGER because of NAESB being down and could result in protocol non-complian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a REP sends an 814_01, and ERCOT is not receiving, the clock hasn’t star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ESB outages, when ERCOT is not able to push transactions, then the clock is still running for the MP on the response transaction to ERCOT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814_03 in the above example would be time stamped out by ERCOT and the clock would be running for the 814_04 back to ERCO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time ERCOT is holding transactions in the internal ERCOT systems it will be reflected in the metrics reported to the MP and PUCT and be on ERCOT’s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123B-B867-49DF-9DF7-E2D759FDBB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COT Retail Outages - D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391520" cy="475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2AC7-9189-4267-994F-011565D432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153280" cy="34988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ation –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Qu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105160" y="236232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57960" y="217008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F Ou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236232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05640" y="2133720"/>
            <a:ext cx="178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ned outage - week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6488-1AE3-4A95-8934-BC7E8904A8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382240" cy="41907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ation –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Qu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514600"/>
            <a:ext cx="759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61000" y="2057400"/>
            <a:ext cx="111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ned ou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4495320" y="4952520"/>
            <a:ext cx="304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23320" y="6248520"/>
            <a:ext cx="111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ned ou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ek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105520" y="4876560"/>
            <a:ext cx="7596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228600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18960" y="182880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ned TML out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ML ph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410080" y="4952880"/>
            <a:ext cx="12193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7543800" y="251460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48480" y="1905120"/>
            <a:ext cx="117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I ou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rans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257800" y="48769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2362320"/>
            <a:ext cx="2286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48240" y="1905120"/>
            <a:ext cx="111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ned ou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ek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971440" y="2630520"/>
            <a:ext cx="56340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11200" y="243828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CH Ou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200040" y="2666880"/>
            <a:ext cx="1523880" cy="148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74200" y="236232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ESB Ou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7314840" y="48769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469640" y="579132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ESB Ou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CD89-53A1-4916-88E2-53B274BFB7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87560" y="1900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inder –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Qtr Metr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6440" y="140976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itch Transactions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84040" y="2286000"/>
          <a:ext cx="8575920" cy="356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2286000"/>
                    <a:ext cx="8575920" cy="35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929E-95ED-4F32-8075-D8C44142E2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bergman</cp:lastModifiedBy>
  <cp:lastPrinted>2002-09-24T18:27:58Z</cp:lastPrinted>
  <dcterms:modified xsi:type="dcterms:W3CDTF">2004-10-07T22:22:38Z</dcterms:modified>
  <cp:revision>292</cp:revision>
  <dc:subject/>
  <dc:title>PowerPoint Presentation</dc:title>
</cp:coreProperties>
</file>